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15.jpeg" ContentType="image/jpeg"/>
  <Override PartName="/ppt/media/image9.gif" ContentType="image/gi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B46-F6EA-4D44-917C-D5F6703C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1A0-B78F-4BD9-B2E3-9267E69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933-574E-4540-A244-F238E2D4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8EA-47AA-4C9B-BBCB-01C966F1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9023-ACE0-4A9E-8F6E-A7FBA0C2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B06D-CF9C-4C00-8CF9-E038B80D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AB58-9DB5-4EAF-B3A4-CB5B4FA7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BB1E-A667-4085-98AD-A08D6A45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8C76-4D1F-4129-8D00-2F57775B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1AF-A47A-482F-919E-0BF9908C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0066-C2B6-467F-A40D-B479B57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7E1-D01F-4DC0-A91B-3841DE3E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424B-181B-4FC9-BAAE-DBAED42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04FB-B91F-46C3-982F-977621F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F800-D649-47A6-B919-DA09F3A3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6368-88F9-4DC0-A961-076E7B1F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8549-B4FB-4B04-9BF9-FFF48AA3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4F7-3F6B-4E16-A4A0-DF627E1C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939-8A51-4683-BD1F-2E20B447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55D-111D-4F02-A12D-F63DDB26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790-4F8E-4BD5-A631-F2B1C988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CFB-EC2D-4C94-86DF-ED3A055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833-C101-4011-8B97-23E1648E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1E2-E492-43AD-9896-A6540039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6C06-B1E4-487D-85A9-88EB9CFFF7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B9C3-583D-4BBB-A095-273491C835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"/>
              </a:rPr>
              <a:t>Millin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"/>
              </a:rPr>
              <a:t>Conn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"/>
              </a:rPr>
              <a:t>Ale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"/>
              </a:rPr>
              <a:t>Da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2530440" cy="2593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3035520" cy="2227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95480" y="304920"/>
            <a:ext cx="3414960" cy="186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0880" y="1219320"/>
            <a:ext cx="21243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What milliners m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Milliners make shirts, hats, aprons, stockings, gloves, hoods, muffs, cloaks, ruffles and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889360" cy="3733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267080" y="3276720"/>
            <a:ext cx="3038760" cy="3314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62120" y="5715000"/>
            <a:ext cx="618840" cy="800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352680" y="5867280"/>
            <a:ext cx="619200" cy="800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7162920" y="5410080"/>
            <a:ext cx="9428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Milliner Job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Milliners need lots of energy for har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76520" y="3352680"/>
            <a:ext cx="5333760" cy="289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58000" y="2514600"/>
            <a:ext cx="1814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Today's 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We have better things to sew with and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Costumes</a:t>
            </a:r>
            <a:r>
              <a:rPr b="0" lang="en-US" sz="4400" spc="-1" strike="noStrike">
                <a:solidFill>
                  <a:srgbClr val="ffffff"/>
                </a:solidFill>
                <a:latin typeface="Wide Lati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illiners also make costumes for masquer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2349720" cy="3505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447920" y="3505320"/>
            <a:ext cx="24289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Demi ITC"/>
              </a:rPr>
              <a:t>Woman millin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gravers MT"/>
              </a:rPr>
              <a:t>Most of the milliners were w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5486400" cy="3957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619200" cy="800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105520" y="5410080"/>
            <a:ext cx="6188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Ha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lmost everyone wore hats from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milliner sh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2895480" cy="2125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34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N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People are fancier at night because th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usually go places like par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They also go to restaurants at n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9:00:59Z</dcterms:created>
  <dc:creator>Leigh Anne</dc:creator>
  <dc:description/>
  <dc:language>en-US</dc:language>
  <cp:lastModifiedBy>Leigh Anne</cp:lastModifiedBy>
  <dcterms:modified xsi:type="dcterms:W3CDTF">2011-03-11T16:47:50Z</dcterms:modified>
  <cp:revision>27</cp:revision>
  <dc:subject/>
  <dc:title>Milliner</dc:title>
</cp:coreProperties>
</file>